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4EE-1502-41F8-A0BE-56B85402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126-DC85-4266-A68B-B135D434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6DE-E3F3-43A7-8916-127B1A50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A2D-D962-42A5-A2A1-7A9B1B17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CF2-C18A-469D-8A95-6A3BDF91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57C-EBBE-4A38-A025-262AF3EA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4D1-A434-4D86-946D-90AF0843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3A3-0F0A-41A4-8479-8C59CB78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063-3977-444A-B2F5-DC2394A4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B8E-46D4-4F09-933C-B9F9F335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3CE-70DF-49F3-9BEB-30D2CEF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937-A3BC-46AB-BAB2-87208666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0898-C624-4D5E-BECB-55D077AED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562120"/>
            <a:ext cx="8458200" cy="2086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9051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valuating Exponenti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05560" cy="1457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2590920" cy="137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3530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1654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4582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4081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5105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943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raphing Exponenti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06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657600" cy="284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233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546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59436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462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4724280"/>
            <a:ext cx="731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Explain why 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an exponential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5:28:38Z</dcterms:created>
  <dc:creator>Susannah Graham</dc:creator>
  <dc:description/>
  <dc:language>en-US</dc:language>
  <cp:lastModifiedBy>Susannah Graham</cp:lastModifiedBy>
  <dcterms:modified xsi:type="dcterms:W3CDTF">2009-08-05T01:56:31Z</dcterms:modified>
  <cp:revision>2</cp:revision>
  <dc:subject/>
  <dc:title>Lesson 8.7 Exponential Functions</dc:title>
</cp:coreProperties>
</file>